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3AB-3FA2-4052-87DB-88330627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9A3-1CE7-49E5-ABCC-4987790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4BC-1885-4177-8D0F-1428D4D4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3C-CB76-437B-B37F-97585568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FAC-2501-427B-8FF3-9B790697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4550-272D-4C05-9C40-956CA1B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6E54-546F-4815-BC6A-7D535DE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E41-03FD-4328-AAB1-7A5BD00D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B250-7C75-49C4-9D7E-FAD9CA9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101-C4D1-4804-8427-EA551E48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3869-8900-4195-9A92-05048C2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4E9-D4FD-4684-A9BD-598F5779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5561-2CA7-4C11-A6FF-1E923BE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B0B7-DD71-4F7E-A8F7-34F928E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C815-6420-4FC4-B6A5-A81ADEE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3559-BB64-4347-8014-F3793155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8993-8310-4701-974B-E28C54A7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1A2-0F3F-4408-B1F3-6E67BF0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753-53F2-477B-BF0A-6278137D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198-1A15-480E-A0FE-B5413263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71A-5DFD-47DB-8B5A-5F3734CE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42F-725A-4CDB-A629-04983B8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502-BBDA-4F3A-8F78-1188EB1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5FF-6598-4F82-8596-93911C5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3B42-9B2B-4C04-88B1-B3F60FE4B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906-0C90-4F45-AC5E-CFD68DB4F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ydergirottigrade5.weebly.com/" TargetMode="External"/><Relationship Id="rId3" Type="http://schemas.openxmlformats.org/officeDocument/2006/relationships/hyperlink" Target="http://snydergirottigrade5.weebly.com/" TargetMode="External"/><Relationship Id="rId4" Type="http://schemas.openxmlformats.org/officeDocument/2006/relationships/hyperlink" Target="http://snydergirottigrade5.weebly.com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ydergirottigrade5.weebly.com/immigration.html" TargetMode="External"/><Relationship Id="rId3" Type="http://schemas.openxmlformats.org/officeDocument/2006/relationships/hyperlink" Target="http://snydergirottigrade5.weebly.com/immigration.html" TargetMode="External"/><Relationship Id="rId4" Type="http://schemas.openxmlformats.org/officeDocument/2006/relationships/hyperlink" Target="http://snydergirottigrade5.weebly.com/immigration.html" TargetMode="External"/><Relationship Id="rId5" Type="http://schemas.openxmlformats.org/officeDocument/2006/relationships/hyperlink" Target="http://snydergirottigrade5.weebly.com/immigration.html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ll.com/us/k-12/p/latitude-2120/pd" TargetMode="External"/><Relationship Id="rId3" Type="http://schemas.openxmlformats.org/officeDocument/2006/relationships/hyperlink" Target="http://www.dell.com/us/k-12/p/latitude-2120/pd" TargetMode="External"/><Relationship Id="rId4" Type="http://schemas.openxmlformats.org/officeDocument/2006/relationships/hyperlink" Target="http://www.dell.com/us/k-12/p/latitude-2120/pd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Grant Application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ie Bal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dge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371600"/>
          <a:ext cx="7315200" cy="4191120"/>
        </p:xfrm>
        <a:graphic>
          <a:graphicData uri="http://schemas.openxmlformats.org/drawingml/2006/table">
            <a:tbl>
              <a:tblPr/>
              <a:tblGrid>
                <a:gridCol w="2008080"/>
                <a:gridCol w="1971720"/>
                <a:gridCol w="1822320"/>
                <a:gridCol w="15130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Dell Latitude Netbook 2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50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15,09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Hewlett-Packard Officejet 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e-All-in one pr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9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495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ＭＳ Ｐゴシック"/>
                        </a:rPr>
                        <a:t>$15, 5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valua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680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d on the depth of imple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wide use in every major subjec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complete one major project in each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level online portfolios will be posted to the 5th grade web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snydergirottigrade5.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weebly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248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n digital skills is going to incr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do not allow our students to use technology in school then we are putting them at a disadvan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omputers will help our students gain necessary skills to make them marketable in years to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bdbd"/>
                </a:solidFill>
                <a:latin typeface="Arial"/>
              </a:rPr>
              <a:t>Bristol Borough School District</a:t>
            </a:r>
            <a:br>
              <a:rPr sz="3800"/>
            </a:br>
            <a:r>
              <a:rPr b="0" lang="en-US" sz="3400" spc="-1" strike="noStrike">
                <a:solidFill>
                  <a:srgbClr val="d3bdbd"/>
                </a:solidFill>
                <a:latin typeface="Arial"/>
              </a:rPr>
              <a:t>Snyder-Girotti Elementary School</a:t>
            </a:r>
            <a:br>
              <a:rPr sz="3400"/>
            </a:br>
            <a:r>
              <a:rPr b="0" lang="en-US" sz="3400" spc="-1" strike="noStrike">
                <a:solidFill>
                  <a:srgbClr val="d3bdbd"/>
                </a:solidFill>
                <a:latin typeface="Arial"/>
              </a:rPr>
              <a:t>5th Grade</a:t>
            </a:r>
            <a:endParaRPr b="0" lang="en-US" sz="34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mbria Italic"/>
              </a:rPr>
              <a:t>Moving in the Right Direc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posal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Bristol Borough, Pennsylv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laptop computers to share among the 5th grade classrooms including the Learning Support Class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rinters one for each ro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d during academic peri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505320" cy="26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Goal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69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ive our students access to technology and integrate it across the curr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tatement of Need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pproximately 84 students in 5th gr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nough money for budget to include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en year old desktop computer per class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e economic backgrounds, many of our students do not have computer access at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deserve the opportunity to use technology in sch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2895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gram Descrip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will be integrated across the curriculum to help deepen and enhance student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help support our curricular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have access to a multitude i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chnology-based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 them to the real world while teaching them 21st century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scription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248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provide professional development to the 5th grade team of teac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making teachers proficient users of web 2.o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will be used on a daily basis with specific goals and objectives for their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have access to greater web based computer interven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will complete one major computer based project each quarter using web 2.0 applications that align to the curriculu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snydergirottigrade5.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weebly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.com/immigration.html</a:t>
            </a: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5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quipmen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Dell Latitude 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3"/>
              </a:rPr>
              <a:t>Netbook </a:t>
            </a:r>
            <a:r>
              <a:rPr b="0" lang="en-US" sz="2800" spc="-1" strike="noStrike" u="sng">
                <a:solidFill>
                  <a:srgbClr val="ce9090"/>
                </a:solidFill>
                <a:uFillTx/>
                <a:latin typeface="Arial"/>
                <a:hlinkClick r:id="rId4"/>
              </a:rPr>
              <a:t>2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ble - rubberized c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inch Antiglare LED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wlett-Packard Officej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n one printer that would allow students to scan or pr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2971800" cy="21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1:37:40Z</dcterms:created>
  <dc:creator>julie/balcer</dc:creator>
  <dc:description/>
  <dc:language>en-US</dc:language>
  <cp:lastModifiedBy>julie/balcer</cp:lastModifiedBy>
  <dcterms:modified xsi:type="dcterms:W3CDTF">2012-07-24T17:57:17Z</dcterms:modified>
  <cp:revision>4</cp:revision>
  <dc:subject/>
  <dc:title>Grant Application</dc:title>
</cp:coreProperties>
</file>